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253163" cy="96123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68160" y="435564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7379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5340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3864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6816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5340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3864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668160" y="1767960"/>
            <a:ext cx="794232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7942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0" y="552600"/>
            <a:ext cx="9144000" cy="43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68160" y="1767960"/>
            <a:ext cx="794232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7379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668160" y="435564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7379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35340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3864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66816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35340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3864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7942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0" y="552600"/>
            <a:ext cx="9144000" cy="43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7379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7604280" cy="520560"/>
          </a:xfrm>
          <a:prstGeom prst="rect">
            <a:avLst/>
          </a:prstGeom>
          <a:solidFill>
            <a:srgbClr val="547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178760" y="282600"/>
            <a:ext cx="425520" cy="244440"/>
          </a:xfrm>
          <a:prstGeom prst="rect">
            <a:avLst/>
          </a:prstGeom>
          <a:solidFill>
            <a:srgbClr val="ffff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57bcc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68160" y="1767960"/>
            <a:ext cx="7942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16417d"/>
              </a:buClr>
              <a:buSzPct val="13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1641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5da7b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5da7b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5da7b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1440" y="511200"/>
            <a:ext cx="511200" cy="673200"/>
          </a:xfrm>
          <a:prstGeom prst="rect">
            <a:avLst/>
          </a:prstGeom>
          <a:solidFill>
            <a:srgbClr val="002ca1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181160"/>
            <a:ext cx="255600" cy="4251240"/>
          </a:xfrm>
          <a:prstGeom prst="rect">
            <a:avLst/>
          </a:prstGeom>
          <a:solidFill>
            <a:srgbClr val="003e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-1440" y="0"/>
            <a:ext cx="511200" cy="512640"/>
          </a:xfrm>
          <a:prstGeom prst="rect">
            <a:avLst/>
          </a:prstGeom>
          <a:solidFill>
            <a:srgbClr val="002ca1">
              <a:alpha val="9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507960" y="0"/>
            <a:ext cx="255600" cy="1182600"/>
          </a:xfrm>
          <a:prstGeom prst="rect">
            <a:avLst/>
          </a:prstGeom>
          <a:solidFill>
            <a:srgbClr val="002ca1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252360" y="1181160"/>
            <a:ext cx="255600" cy="2573280"/>
          </a:xfrm>
          <a:prstGeom prst="rect">
            <a:avLst/>
          </a:prstGeom>
          <a:solidFill>
            <a:srgbClr val="003e7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9" name="" descr=""/>
          <p:cNvPicPr/>
          <p:nvPr/>
        </p:nvPicPr>
        <p:blipFill>
          <a:blip r:embed="rId2"/>
          <a:stretch/>
        </p:blipFill>
        <p:spPr>
          <a:xfrm>
            <a:off x="7736040" y="1440"/>
            <a:ext cx="1360440" cy="534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7620120" cy="520560"/>
          </a:xfrm>
          <a:prstGeom prst="rect">
            <a:avLst/>
          </a:prstGeom>
          <a:solidFill>
            <a:srgbClr val="557b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381800" y="219240"/>
            <a:ext cx="244440" cy="299880"/>
          </a:xfrm>
          <a:prstGeom prst="rect">
            <a:avLst/>
          </a:prstGeom>
          <a:solidFill>
            <a:srgbClr val="ffff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4560" y="2131920"/>
            <a:ext cx="8002800" cy="14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557bcc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-9360" y="509760"/>
            <a:ext cx="510840" cy="510840"/>
          </a:xfrm>
          <a:prstGeom prst="rect">
            <a:avLst/>
          </a:prstGeom>
          <a:solidFill>
            <a:srgbClr val="002ca1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1019160"/>
            <a:ext cx="255600" cy="4413240"/>
          </a:xfrm>
          <a:prstGeom prst="rect">
            <a:avLst/>
          </a:prstGeom>
          <a:solidFill>
            <a:srgbClr val="003e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-9360" y="0"/>
            <a:ext cx="510840" cy="512640"/>
          </a:xfrm>
          <a:prstGeom prst="rect">
            <a:avLst/>
          </a:prstGeom>
          <a:solidFill>
            <a:srgbClr val="002ca1">
              <a:alpha val="9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0040" y="0"/>
            <a:ext cx="511200" cy="1022400"/>
          </a:xfrm>
          <a:prstGeom prst="rect">
            <a:avLst/>
          </a:prstGeom>
          <a:solidFill>
            <a:srgbClr val="002ca1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2360" y="1019160"/>
            <a:ext cx="255600" cy="2735280"/>
          </a:xfrm>
          <a:prstGeom prst="rect">
            <a:avLst/>
          </a:prstGeom>
          <a:solidFill>
            <a:srgbClr val="003e7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51240" y="701640"/>
            <a:ext cx="555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5992920" y="152280"/>
            <a:ext cx="3087720" cy="12128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3774960" y="4862520"/>
            <a:ext cx="1582920" cy="15429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422440" y="6415200"/>
            <a:ext cx="448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e7f"/>
                </a:solidFill>
                <a:latin typeface="Arial"/>
              </a:rPr>
              <a:t>Ludwig-Maximilians-Universität Münch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7080" y="46080"/>
            <a:ext cx="1643040" cy="225360"/>
          </a:xfrm>
          <a:prstGeom prst="rect">
            <a:avLst/>
          </a:prstGeom>
          <a:solidFill>
            <a:srgbClr val="557b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821120" y="263520"/>
            <a:ext cx="2870280" cy="279360"/>
          </a:xfrm>
          <a:prstGeom prst="rect">
            <a:avLst/>
          </a:prstGeom>
          <a:solidFill>
            <a:srgbClr val="ffff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1019160"/>
            <a:ext cx="255600" cy="4413240"/>
          </a:xfrm>
          <a:prstGeom prst="rect">
            <a:avLst/>
          </a:prstGeom>
          <a:solidFill>
            <a:srgbClr val="003e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98" name=""/>
          <p:cNvCxnSpPr>
            <a:stCxn id="99" idx="3"/>
            <a:endCxn id="100" idx="1"/>
          </p:cNvCxnSpPr>
          <p:nvPr/>
        </p:nvCxnSpPr>
        <p:spPr>
          <a:xfrm flipV="1">
            <a:off x="3313080" y="3405960"/>
            <a:ext cx="2699280" cy="676440"/>
          </a:xfrm>
          <a:prstGeom prst="bentConnector3">
            <a:avLst>
              <a:gd name="adj1" fmla="val 50006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101" name=""/>
          <p:cNvCxnSpPr>
            <a:stCxn id="99" idx="3"/>
            <a:endCxn id="102" idx="1"/>
          </p:cNvCxnSpPr>
          <p:nvPr/>
        </p:nvCxnSpPr>
        <p:spPr>
          <a:xfrm>
            <a:off x="3313080" y="4082040"/>
            <a:ext cx="2699280" cy="675000"/>
          </a:xfrm>
          <a:prstGeom prst="bentConnector3">
            <a:avLst>
              <a:gd name="adj1" fmla="val 50006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99" name=""/>
          <p:cNvSpPr/>
          <p:nvPr/>
        </p:nvSpPr>
        <p:spPr>
          <a:xfrm>
            <a:off x="927000" y="3519360"/>
            <a:ext cx="2386080" cy="112572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Hautturgor ↓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012000" y="2843280"/>
            <a:ext cx="2385720" cy="112536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ehydratatio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012000" y="4194000"/>
            <a:ext cx="2385720" cy="112572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Kachexi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838080" y="549360"/>
            <a:ext cx="154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Hautturgor ↓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4-03-04T00:01:30Z</dcterms:created>
  <dc:creator>ID</dc:creator>
  <dc:description/>
  <cp:keywords/>
  <dc:language>en-US</dc:language>
  <cp:lastModifiedBy>Steffi &amp; Gregor</cp:lastModifiedBy>
  <cp:lastPrinted>1999-05-13T12:26:48Z</cp:lastPrinted>
  <dcterms:modified xsi:type="dcterms:W3CDTF">2008-10-15T13:27:59Z</dcterms:modified>
  <cp:revision>326</cp:revision>
  <dc:subject/>
  <dc:title>Vorstellung einer Neuheit</dc:title>
</cp:coreProperties>
</file>